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608292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1866600" y="1409760"/>
            <a:ext cx="92710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6319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1269720" y="608292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6319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0816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834660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126972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480816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834660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1269720" y="3124080"/>
            <a:ext cx="10464840" cy="56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1046484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1866600" y="1409760"/>
            <a:ext cx="92710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6319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1269720" y="608292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66319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80816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834660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126972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480816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834660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269720" y="3124080"/>
            <a:ext cx="10464840" cy="56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1046484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1866600" y="1409760"/>
            <a:ext cx="92710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6319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1269720" y="608292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66319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80816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834660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126972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480816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834660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1269720" y="3124080"/>
            <a:ext cx="10464840" cy="56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1046484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1866600" y="1409760"/>
            <a:ext cx="92710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3124080"/>
            <a:ext cx="10464840" cy="56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6319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1269720" y="608292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66319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80816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834660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126972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480816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834660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1046484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866600" y="1409760"/>
            <a:ext cx="92710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3124080"/>
            <a:ext cx="10464840" cy="56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608292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69720" y="3124080"/>
            <a:ext cx="10464840" cy="56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1046484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1046484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866600" y="1409760"/>
            <a:ext cx="92710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19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69720" y="608292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19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816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4660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6972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80816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34660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69720" y="3124080"/>
            <a:ext cx="10464840" cy="56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1046484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866600" y="1409760"/>
            <a:ext cx="92710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319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269720" y="608292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319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0816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4660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26972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80816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34660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269720" y="3124080"/>
            <a:ext cx="10464840" cy="56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1046484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1866600" y="1409760"/>
            <a:ext cx="92710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6319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1269720" y="608292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66319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866600" y="1409760"/>
            <a:ext cx="92710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0816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834660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126972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480816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834660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269720" y="3124080"/>
            <a:ext cx="10464840" cy="56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1046484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866600" y="1409760"/>
            <a:ext cx="92710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6319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269720" y="608292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66319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80816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34660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126972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480816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834660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269720" y="3124080"/>
            <a:ext cx="10464840" cy="56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1046484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866600" y="1409760"/>
            <a:ext cx="92710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6319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1269720" y="608292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66319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816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4660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126972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480816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834660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1269720" y="3124080"/>
            <a:ext cx="10464840" cy="56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1046484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1866600" y="1409760"/>
            <a:ext cx="92710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6319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1269720" y="608292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66319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80816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834660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126972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480816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834660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1269720" y="3124080"/>
            <a:ext cx="10464840" cy="56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1046484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87320" y="2387160"/>
            <a:ext cx="11430000" cy="290844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000000"/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d7e2ee"/>
                </a:solidFill>
                <a:latin typeface="Stone Sans ITC TT-Semi"/>
              </a:rPr>
              <a:t>Click to edit the title text format</a:t>
            </a: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87320" y="5397120"/>
            <a:ext cx="11430000" cy="31878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000000"/>
            </a:outerShdw>
          </a:effectLst>
        </p:spPr>
        <p:txBody>
          <a:bodyPr lIns="50760" rIns="50760" tIns="50760" bIns="50760" anchor="t">
            <a:normAutofit fontScale="9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7e2ee"/>
                </a:solidFill>
                <a:latin typeface="Stone Sans ITC TT-Semi"/>
              </a:rPr>
              <a:t>Click to edit the outline text format</a:t>
            </a: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  <a:p>
            <a:pPr lvl="1" algn="ctr">
              <a:buClr>
                <a:srgbClr val="d7e2ee"/>
              </a:buClr>
              <a:buFont typeface="Stone Sans ITC TT-Sem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7e2ee"/>
                </a:solidFill>
                <a:latin typeface="Stone Sans ITC TT-Semi"/>
              </a:rPr>
              <a:t>Second Outline Level</a:t>
            </a: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  <a:p>
            <a:pPr lvl="2" algn="ctr">
              <a:buClr>
                <a:srgbClr val="d7e2ee"/>
              </a:buClr>
              <a:buFont typeface="Stone Sans ITC TT-Sem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7e2ee"/>
                </a:solidFill>
                <a:latin typeface="Stone Sans ITC TT-Semi"/>
              </a:rPr>
              <a:t>Third Outline Level</a:t>
            </a: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  <a:p>
            <a:pPr lvl="3" algn="ctr">
              <a:buClr>
                <a:srgbClr val="d7e2ee"/>
              </a:buClr>
              <a:buFont typeface="Stone Sans ITC TT-Sem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7e2ee"/>
                </a:solidFill>
                <a:latin typeface="Stone Sans ITC TT-Semi"/>
              </a:rPr>
              <a:t>Fourth Outline Level</a:t>
            </a: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  <a:p>
            <a:pPr lvl="4" algn="ctr">
              <a:buClr>
                <a:srgbClr val="d7e2ee"/>
              </a:buClr>
              <a:buFont typeface="Stone Sans ITC TT-Sem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7e2ee"/>
                </a:solidFill>
                <a:latin typeface="Stone Sans ITC TT-Semi"/>
              </a:rPr>
              <a:t>Fifth Outline Level</a:t>
            </a: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  <a:p>
            <a:pPr lvl="5" algn="ctr">
              <a:buClr>
                <a:srgbClr val="d7e2ee"/>
              </a:buClr>
              <a:buFont typeface="Stone Sans ITC TT-Sem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7e2ee"/>
                </a:solidFill>
                <a:latin typeface="Stone Sans ITC TT-Semi"/>
              </a:rPr>
              <a:t>Sixth Outline Level</a:t>
            </a: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  <a:p>
            <a:pPr lvl="6" algn="ctr">
              <a:buClr>
                <a:srgbClr val="d7e2ee"/>
              </a:buClr>
              <a:buFont typeface="Stone Sans ITC TT-Sem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7e2ee"/>
                </a:solidFill>
                <a:latin typeface="Stone Sans ITC TT-Semi"/>
              </a:rPr>
              <a:t>Seventh Outline Level</a:t>
            </a: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3b3b3e"/>
                </a:solidFill>
                <a:latin typeface="Stone Sans ITC TT-Semi"/>
              </a:rPr>
              <a:t>Click to edit the title text format</a:t>
            </a: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body"/>
          </p:nvPr>
        </p:nvSpPr>
        <p:spPr>
          <a:xfrm>
            <a:off x="1269720" y="1727280"/>
            <a:ext cx="10464840" cy="7061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0000"/>
          </a:bodyPr>
          <a:p>
            <a:pPr marL="731520" indent="-582840">
              <a:spcBef>
                <a:spcPts val="42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lvl="1" marL="1298520" indent="-582840">
              <a:spcBef>
                <a:spcPts val="42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lvl="2" marL="1847160" indent="-582840">
              <a:spcBef>
                <a:spcPts val="42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lvl="3" marL="2411640" indent="-583200">
              <a:spcBef>
                <a:spcPts val="42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lvl="4" marL="2960280" indent="-582840">
              <a:spcBef>
                <a:spcPts val="42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lvl="5" marL="2960280" indent="-582840">
              <a:spcBef>
                <a:spcPts val="42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lvl="6" marL="2960280" indent="-582840">
              <a:spcBef>
                <a:spcPts val="42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3b3b3e"/>
                </a:solidFill>
                <a:latin typeface="Stone Sans ITC TT-Semi"/>
              </a:rPr>
              <a:t>Click to edit the title text format</a:t>
            </a: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3124080"/>
            <a:ext cx="1046484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2000"/>
          </a:bodyPr>
          <a:p>
            <a:pPr marL="747720" indent="-595800">
              <a:spcBef>
                <a:spcPts val="20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lvl="1" marL="1327320" indent="-595800">
              <a:spcBef>
                <a:spcPts val="20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lvl="2" marL="1888200" indent="-595800">
              <a:spcBef>
                <a:spcPts val="20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lvl="3" marL="2465280" indent="-596160">
              <a:spcBef>
                <a:spcPts val="20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lvl="4" marL="3026160" indent="-595800">
              <a:spcBef>
                <a:spcPts val="20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lvl="5" marL="3026160" indent="-595800">
              <a:spcBef>
                <a:spcPts val="20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lvl="6" marL="3026160" indent="-595800">
              <a:spcBef>
                <a:spcPts val="20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87320" y="3568320"/>
            <a:ext cx="11430000" cy="290844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000000"/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d7e2ee"/>
                </a:solidFill>
                <a:latin typeface="Stone Sans ITC TT-Semi"/>
              </a:rPr>
              <a:t>Click to edit the title text format</a:t>
            </a: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87320" y="7543800"/>
            <a:ext cx="11430000" cy="168912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000000"/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d7e2ee"/>
                </a:solidFill>
                <a:latin typeface="Stone Sans ITC TT-Semi"/>
              </a:rPr>
              <a:t>Click to edit the title text format</a:t>
            </a:r>
            <a:endParaRPr b="0" lang="en-US" sz="7600" spc="-1" strike="noStrike">
              <a:solidFill>
                <a:srgbClr val="d7e2ee"/>
              </a:solidFill>
              <a:latin typeface="Stone Sans ITC TT-Sem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0" y="0"/>
            <a:ext cx="13004640" cy="9753480"/>
            <a:chOff x="0" y="0"/>
            <a:chExt cx="13004640" cy="9753480"/>
          </a:xfrm>
        </p:grpSpPr>
        <p:pic>
          <p:nvPicPr>
            <p:cNvPr id="151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3004640" cy="975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" descr=""/>
            <p:cNvPicPr/>
            <p:nvPr/>
          </p:nvPicPr>
          <p:blipFill>
            <a:blip r:embed="rId4"/>
            <a:stretch/>
          </p:blipFill>
          <p:spPr>
            <a:xfrm>
              <a:off x="6832440" y="2222640"/>
              <a:ext cx="4724640" cy="6057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44600" y="2476440"/>
            <a:ext cx="6248160" cy="281952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000000"/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d7e2ee"/>
                </a:solidFill>
                <a:latin typeface="Stone Sans ITC TT-Semi"/>
              </a:rPr>
              <a:t>Click to edit the title text format</a:t>
            </a:r>
            <a:endParaRPr b="0" lang="en-US" sz="76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444600" y="5397120"/>
            <a:ext cx="6248160" cy="25146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000000"/>
            </a:outerShdw>
          </a:effectLst>
        </p:spPr>
        <p:txBody>
          <a:bodyPr lIns="50760" rIns="50760" tIns="50760" bIns="50760" anchor="t">
            <a:normAutofit fontScale="62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7e2ee"/>
                </a:solidFill>
                <a:latin typeface="Stone Sans ITC TT-Semi"/>
              </a:rPr>
              <a:t>Click to edit the outline text format</a:t>
            </a:r>
            <a:endParaRPr b="0" lang="en-US" sz="3600" spc="-1" strike="noStrike">
              <a:solidFill>
                <a:srgbClr val="d7e2ee"/>
              </a:solidFill>
              <a:latin typeface="Stone Sans ITC TT-Semi"/>
            </a:endParaRPr>
          </a:p>
          <a:p>
            <a:pPr lvl="1" algn="ctr">
              <a:buClr>
                <a:srgbClr val="d7e2ee"/>
              </a:buClr>
              <a:buFont typeface="Stone Sans ITC TT-Sem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7e2ee"/>
                </a:solidFill>
                <a:latin typeface="Stone Sans ITC TT-Semi"/>
              </a:rPr>
              <a:t>Second Outline Level</a:t>
            </a:r>
            <a:endParaRPr b="0" lang="en-US" sz="3600" spc="-1" strike="noStrike">
              <a:solidFill>
                <a:srgbClr val="d7e2ee"/>
              </a:solidFill>
              <a:latin typeface="Stone Sans ITC TT-Semi"/>
            </a:endParaRPr>
          </a:p>
          <a:p>
            <a:pPr lvl="2" algn="ctr">
              <a:buClr>
                <a:srgbClr val="d7e2ee"/>
              </a:buClr>
              <a:buFont typeface="Stone Sans ITC TT-Sem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7e2ee"/>
                </a:solidFill>
                <a:latin typeface="Stone Sans ITC TT-Semi"/>
              </a:rPr>
              <a:t>Third Outline Level</a:t>
            </a:r>
            <a:endParaRPr b="0" lang="en-US" sz="3600" spc="-1" strike="noStrike">
              <a:solidFill>
                <a:srgbClr val="d7e2ee"/>
              </a:solidFill>
              <a:latin typeface="Stone Sans ITC TT-Semi"/>
            </a:endParaRPr>
          </a:p>
          <a:p>
            <a:pPr lvl="3" algn="ctr">
              <a:buClr>
                <a:srgbClr val="d7e2ee"/>
              </a:buClr>
              <a:buFont typeface="Stone Sans ITC TT-Sem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7e2ee"/>
                </a:solidFill>
                <a:latin typeface="Stone Sans ITC TT-Semi"/>
              </a:rPr>
              <a:t>Fourth Outline Level</a:t>
            </a:r>
            <a:endParaRPr b="0" lang="en-US" sz="3600" spc="-1" strike="noStrike">
              <a:solidFill>
                <a:srgbClr val="d7e2ee"/>
              </a:solidFill>
              <a:latin typeface="Stone Sans ITC TT-Semi"/>
            </a:endParaRPr>
          </a:p>
          <a:p>
            <a:pPr lvl="4" algn="ctr">
              <a:buClr>
                <a:srgbClr val="d7e2ee"/>
              </a:buClr>
              <a:buFont typeface="Stone Sans ITC TT-Sem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7e2ee"/>
                </a:solidFill>
                <a:latin typeface="Stone Sans ITC TT-Semi"/>
              </a:rPr>
              <a:t>Fifth Outline Level</a:t>
            </a:r>
            <a:endParaRPr b="0" lang="en-US" sz="3600" spc="-1" strike="noStrike">
              <a:solidFill>
                <a:srgbClr val="d7e2ee"/>
              </a:solidFill>
              <a:latin typeface="Stone Sans ITC TT-Semi"/>
            </a:endParaRPr>
          </a:p>
          <a:p>
            <a:pPr lvl="5" algn="ctr">
              <a:buClr>
                <a:srgbClr val="d7e2ee"/>
              </a:buClr>
              <a:buFont typeface="Stone Sans ITC TT-Sem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7e2ee"/>
                </a:solidFill>
                <a:latin typeface="Stone Sans ITC TT-Semi"/>
              </a:rPr>
              <a:t>Sixth Outline Level</a:t>
            </a:r>
            <a:endParaRPr b="0" lang="en-US" sz="3600" spc="-1" strike="noStrike">
              <a:solidFill>
                <a:srgbClr val="d7e2ee"/>
              </a:solidFill>
              <a:latin typeface="Stone Sans ITC TT-Semi"/>
            </a:endParaRPr>
          </a:p>
          <a:p>
            <a:pPr lvl="6" algn="ctr">
              <a:buClr>
                <a:srgbClr val="d7e2ee"/>
              </a:buClr>
              <a:buFont typeface="Stone Sans ITC TT-Sem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7e2ee"/>
                </a:solidFill>
                <a:latin typeface="Stone Sans ITC TT-Semi"/>
              </a:rPr>
              <a:t>Seventh Outline Level</a:t>
            </a:r>
            <a:endParaRPr b="0" lang="en-US" sz="3600" spc="-1" strike="noStrike">
              <a:solidFill>
                <a:srgbClr val="d7e2ee"/>
              </a:solidFill>
              <a:latin typeface="Stone Sans ITC TT-Sem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3b3b3e"/>
                </a:solidFill>
                <a:latin typeface="Stone Sans ITC TT-Semi"/>
              </a:rPr>
              <a:t>Click to edit the title text format</a:t>
            </a: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1447920" y="3124080"/>
            <a:ext cx="463536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8000"/>
          </a:bodyPr>
          <a:p>
            <a:pPr marL="496440" indent="-383760">
              <a:spcBef>
                <a:spcPts val="33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1" marL="926280" indent="-385560">
              <a:spcBef>
                <a:spcPts val="33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2" marL="1340640" indent="-385200">
              <a:spcBef>
                <a:spcPts val="33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3" marL="1765800" indent="-384120">
              <a:spcBef>
                <a:spcPts val="33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4" marL="2180520" indent="-384120">
              <a:spcBef>
                <a:spcPts val="33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5" marL="2180520" indent="-384120">
              <a:spcBef>
                <a:spcPts val="33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6" marL="2180520" indent="-384120">
              <a:spcBef>
                <a:spcPts val="33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3b3b3e"/>
                </a:solidFill>
                <a:latin typeface="Stone Sans ITC TT-Semi"/>
              </a:rPr>
              <a:t>Click to edit the title text format</a:t>
            </a: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1269720" y="3124080"/>
            <a:ext cx="1046484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671400" indent="-519480">
              <a:spcBef>
                <a:spcPts val="33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1" marL="1253160" indent="-521640">
              <a:spcBef>
                <a:spcPts val="33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2" marL="1813680" indent="-521280">
              <a:spcBef>
                <a:spcPts val="33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3" marL="2388960" indent="-519840">
              <a:spcBef>
                <a:spcPts val="33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4" marL="2950200" indent="-519840">
              <a:spcBef>
                <a:spcPts val="33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5" marL="2950200" indent="-519840">
              <a:spcBef>
                <a:spcPts val="33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6" marL="2950200" indent="-519840">
              <a:spcBef>
                <a:spcPts val="33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3b3b3e"/>
                </a:solidFill>
                <a:latin typeface="Stone Sans ITC TT-Semi"/>
              </a:rPr>
              <a:t>Click to edit the title text format</a:t>
            </a: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1447920" y="3124080"/>
            <a:ext cx="463536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8000"/>
          </a:bodyPr>
          <a:p>
            <a:pPr marL="496440" indent="-383760">
              <a:spcBef>
                <a:spcPts val="33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1" marL="926280" indent="-385560">
              <a:spcBef>
                <a:spcPts val="33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2" marL="1340640" indent="-385200">
              <a:spcBef>
                <a:spcPts val="33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3" marL="1765800" indent="-384120">
              <a:spcBef>
                <a:spcPts val="33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4" marL="2180520" indent="-384120">
              <a:spcBef>
                <a:spcPts val="33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5" marL="2180520" indent="-384120">
              <a:spcBef>
                <a:spcPts val="33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6" marL="2180520" indent="-384120">
              <a:spcBef>
                <a:spcPts val="33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3b3b3e"/>
                </a:solidFill>
                <a:latin typeface="Stone Sans ITC TT-Semi"/>
              </a:rPr>
              <a:t>Click to edit the title text format</a:t>
            </a: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8051400" y="3124080"/>
            <a:ext cx="368316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2000"/>
          </a:bodyPr>
          <a:p>
            <a:pPr marL="452520" indent="-349920">
              <a:spcBef>
                <a:spcPts val="33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1" marL="844560" indent="-351360">
              <a:spcBef>
                <a:spcPts val="33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2" marL="1222200" indent="-351000">
              <a:spcBef>
                <a:spcPts val="33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3" marL="1609920" indent="-350280">
              <a:spcBef>
                <a:spcPts val="33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4" marL="1987920" indent="-350280">
              <a:spcBef>
                <a:spcPts val="33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5" marL="1987920" indent="-350280">
              <a:spcBef>
                <a:spcPts val="33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6" marL="1987920" indent="-350280">
              <a:spcBef>
                <a:spcPts val="33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69800" y="1003320"/>
            <a:ext cx="12065040" cy="292104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000000"/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d7e2ee"/>
                </a:solidFill>
                <a:latin typeface="Stone Sans ITC TT-Semi"/>
              </a:rPr>
              <a:t>Mountains to Sound Greenway</a:t>
            </a:r>
            <a:endParaRPr b="0" lang="en-US" sz="6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787320" y="7149600"/>
            <a:ext cx="11430000" cy="31878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000000"/>
            </a:outerShdw>
          </a:effectLst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7e2ee"/>
                </a:solidFill>
                <a:latin typeface="Stone Sans ITC TT-Semi"/>
              </a:rPr>
              <a:t>Classroom to Forest Connections</a:t>
            </a: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2"/>
          <a:stretch/>
        </p:blipFill>
        <p:spPr>
          <a:xfrm>
            <a:off x="3619440" y="4419720"/>
            <a:ext cx="5753160" cy="38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971440" y="1790280"/>
            <a:ext cx="9271080" cy="1714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b3b3e"/>
                </a:solidFill>
                <a:latin typeface="Stone Sans ITC TT-Semi"/>
              </a:rPr>
              <a:t>Mountains to Sound Greenway</a:t>
            </a:r>
            <a:br>
              <a:rPr sz="4800"/>
            </a:br>
            <a:r>
              <a:rPr b="0" lang="en-US" sz="2400" spc="-1" strike="noStrike">
                <a:solidFill>
                  <a:srgbClr val="3b3b3e"/>
                </a:solidFill>
                <a:latin typeface="Stone Sans ITC TT-Semi"/>
              </a:rPr>
              <a:t>Overview:</a:t>
            </a:r>
            <a:endParaRPr b="0" lang="en-US" sz="2400" spc="-1" strike="noStrike">
              <a:solidFill>
                <a:srgbClr val="3b3b3e"/>
              </a:solidFill>
              <a:latin typeface="Stone Sans ITC TT-Sem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1046484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3640" indent="-64764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Encompasses over 800,000 acres of publicly-owned land.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marL="863640" indent="-64764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Stretches along a 100 mile long corridor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marL="863640" indent="-64764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Extends from the Seattle Waterfront over the Cascade Mountains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5"/>
          <a:stretch/>
        </p:blipFill>
        <p:spPr>
          <a:xfrm>
            <a:off x="1244520" y="1523880"/>
            <a:ext cx="1486080" cy="203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/>
          </p:nvPr>
        </p:nvSpPr>
        <p:spPr>
          <a:xfrm>
            <a:off x="1269720" y="3314520"/>
            <a:ext cx="10464840" cy="566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3640" indent="-64764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Mountains to Sound Greenway offers From Classroom to Forest Programs for local schools.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marL="863640" indent="-64764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link to science kits used by local schools.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marL="863640" indent="-64764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Classroom component and on-site field trips available.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title"/>
          </p:nvPr>
        </p:nvSpPr>
        <p:spPr>
          <a:xfrm>
            <a:off x="2971440" y="1790280"/>
            <a:ext cx="9271080" cy="1714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b3b3e"/>
                </a:solidFill>
                <a:latin typeface="Stone Sans ITC TT-Semi"/>
              </a:rPr>
              <a:t>Mountains to Sound Greenway</a:t>
            </a:r>
            <a:br>
              <a:rPr sz="4800"/>
            </a:br>
            <a:r>
              <a:rPr b="0" lang="en-US" sz="2400" spc="-1" strike="noStrike">
                <a:solidFill>
                  <a:srgbClr val="3b3b3e"/>
                </a:solidFill>
                <a:latin typeface="Stone Sans ITC TT-Semi"/>
              </a:rPr>
              <a:t>Programs:</a:t>
            </a:r>
            <a:endParaRPr b="0" lang="en-US" sz="2400" spc="-1" strike="noStrike">
              <a:solidFill>
                <a:srgbClr val="3b3b3e"/>
              </a:solidFill>
              <a:latin typeface="Stone Sans ITC TT-Sem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5"/>
          <a:stretch/>
        </p:blipFill>
        <p:spPr>
          <a:xfrm>
            <a:off x="1244520" y="1523880"/>
            <a:ext cx="1486080" cy="203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971440" y="1790280"/>
            <a:ext cx="9271080" cy="1714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b3b3e"/>
                </a:solidFill>
                <a:latin typeface="Stone Sans ITC TT-Semi"/>
              </a:rPr>
              <a:t>Mountains to Sound Greenway</a:t>
            </a:r>
            <a:br>
              <a:rPr sz="4800"/>
            </a:br>
            <a:r>
              <a:rPr b="0" lang="en-US" sz="2400" spc="-1" strike="noStrike">
                <a:solidFill>
                  <a:srgbClr val="3b3b3e"/>
                </a:solidFill>
                <a:latin typeface="Stone Sans ITC TT-Semi"/>
              </a:rPr>
              <a:t>Cost:</a:t>
            </a:r>
            <a:endParaRPr b="0" lang="en-US" sz="2400" spc="-1" strike="noStrike">
              <a:solidFill>
                <a:srgbClr val="3b3b3e"/>
              </a:solidFill>
              <a:latin typeface="Stone Sans ITC TT-Sem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1046484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3640" indent="-64764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Cost is reduced or free for public schools, depending on percentage of free-and-reduced lunch population.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marL="863640" indent="-64764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Subsidies are available for transportation to and from field sites.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4"/>
          <a:stretch/>
        </p:blipFill>
        <p:spPr>
          <a:xfrm>
            <a:off x="1244520" y="1523880"/>
            <a:ext cx="1486080" cy="203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1270080" y="2070000"/>
            <a:ext cx="10998000" cy="5639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3640" indent="-64764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Learn where Seattle’s water comes from at the Cedar River Watershed Interpretive Center near North Bend. Tours and programs available by lottery.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title"/>
          </p:nvPr>
        </p:nvSpPr>
        <p:spPr>
          <a:xfrm>
            <a:off x="2971440" y="1790280"/>
            <a:ext cx="9271080" cy="1714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b3b3e"/>
                </a:solidFill>
                <a:latin typeface="Stone Sans ITC TT-Semi"/>
              </a:rPr>
              <a:t>Mountains to Sound Greenway</a:t>
            </a:r>
            <a:br>
              <a:rPr sz="4800"/>
            </a:br>
            <a:r>
              <a:rPr b="0" lang="en-US" sz="2400" spc="-1" strike="noStrike">
                <a:solidFill>
                  <a:srgbClr val="3b3b3e"/>
                </a:solidFill>
                <a:latin typeface="Stone Sans ITC TT-Semi"/>
              </a:rPr>
              <a:t>Cedar River Watershed</a:t>
            </a:r>
            <a:endParaRPr b="0" lang="en-US" sz="2400" spc="-1" strike="noStrike">
              <a:solidFill>
                <a:srgbClr val="3b3b3e"/>
              </a:solidFill>
              <a:latin typeface="Stone Sans ITC TT-Sem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pic>
        <p:nvPicPr>
          <p:cNvPr id="467" name="" descr=""/>
          <p:cNvPicPr/>
          <p:nvPr/>
        </p:nvPicPr>
        <p:blipFill>
          <a:blip r:embed="rId3"/>
          <a:stretch/>
        </p:blipFill>
        <p:spPr>
          <a:xfrm>
            <a:off x="1244520" y="1523880"/>
            <a:ext cx="1486080" cy="203220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4"/>
          <a:stretch/>
        </p:blipFill>
        <p:spPr>
          <a:xfrm>
            <a:off x="2843280" y="6350040"/>
            <a:ext cx="784548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895120" y="167652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b3b3e"/>
                </a:solidFill>
                <a:latin typeface="Stone Sans ITC TT-Semi"/>
              </a:rPr>
              <a:t>Mountains to Sound Greenway</a:t>
            </a:r>
            <a:br>
              <a:rPr sz="4800"/>
            </a:br>
            <a:r>
              <a:rPr b="0" lang="en-US" sz="2400" spc="-1" strike="noStrike">
                <a:solidFill>
                  <a:srgbClr val="3b3b3e"/>
                </a:solidFill>
                <a:latin typeface="Stone Sans ITC TT-Semi"/>
              </a:rPr>
              <a:t>Mercer Slough</a:t>
            </a:r>
            <a:endParaRPr b="0" lang="en-US" sz="2400" spc="-1" strike="noStrike">
              <a:solidFill>
                <a:srgbClr val="3b3b3e"/>
              </a:solidFill>
              <a:latin typeface="Stone Sans ITC TT-Sem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55600" y="4038120"/>
            <a:ext cx="10553760" cy="5613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3640" indent="-64764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More programs are available at the Mercer Slough Environmental Education Center in Bellevue.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3"/>
          <a:stretch/>
        </p:blipFill>
        <p:spPr>
          <a:xfrm>
            <a:off x="1244520" y="1523880"/>
            <a:ext cx="1486080" cy="203220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4"/>
          <a:stretch/>
        </p:blipFill>
        <p:spPr>
          <a:xfrm>
            <a:off x="7429680" y="2705040"/>
            <a:ext cx="3962160" cy="2648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